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4A44-7351-4B10-81C3-12363BA58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D0F7-C290-4003-84EA-E3C65988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st.gov/oles/forensics/biology_dna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CE0E-4352-4550-A78C-B3CD93A3A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79F1-C3ED-476C-BAF0-1F8EE514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D8A9-CA81-499E-98E0-4374121C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12BD-6EEC-4E31-A55B-ED155D34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10AF-3986-4B9E-B11C-22E74C87B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78CB-3B06-410E-9C0A-3684020A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12E6-6B86-410C-A9AE-CBA7C423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1/02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D247-5367-41C1-8D35-1C6AE9F0D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B0DE-EEE2-49E7-B37A-EF03A683D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49B9-E667-451F-B11C-0420E618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rugline.org/medic/term/meiotic-nondisjun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A14F-786B-4C79-84F9-E168B71B1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38C4-3CBB-4A11-ABA4-587639AAB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jp.psychiatryonline.org/Mobile/article.aspx?articleid=175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F63C-0A1E-46F3-99C6-16EB4EC96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junction.com/karyotype_la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ECBA-5909-4C74-B3EF-77EBB903F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arveendulai.wikispaces.com/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318B-E662-498C-96BD-2A767DF9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63D1-2AC7-478D-B019-7D8498E23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3DCE-2965-4903-8457-62F355EF6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B46-C2E6-49FA-A1C1-2500B738E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C6AB-856E-43EF-A9A8-F63A04E5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5DA-6535-451B-9135-ED3877C8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5795-298A-496D-95E5-A0F8733B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3560-E35B-49A7-960A-0FC88AA22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D159-E99A-46A6-AC6B-B3B8D0DF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0AAE-A199-4938-9589-08E0EDE1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C40A-37DE-45F5-8018-CF5E1A7D6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776-8439-4456-96B2-EA0532B2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eneticsandsociety.org/article.php?id=4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fightyourinfertility.com/wp-content/uploads/2015/09/IVF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8B45-1938-4398-9A12-E4D570081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Toronto zoo panda cub page: http://www.torontozoo.com/GiantPandaC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oronto zoo panda cubs: http://storage.torontosun.com/v1/dynamic_resize/sws_path/suns-prod-images/1297763640523_ORIGINAL.jpg?quality=80&amp;size=6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07A4-712D-400F-904C-C7AC13A9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420-0AE2-4693-8F73-478573A9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4AA8-DCE9-4E2E-9DA8-F85A7C820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D51-563D-4C99-BEE2-64245159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F913-819D-4BB7-83E2-1901F703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CC0C-135C-42E7-904F-DC9F5A7D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A8E5-96D5-49A7-B46F-3F600651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CE0-1A8F-4F6D-A208-C55A58A3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AD0-066A-4329-9A21-9ACE610B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B6B-A509-4C91-B29D-C087D95E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E66-8D51-442B-9566-F645DE53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D72-24EC-42A4-8B3C-8497766B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1A4-F30A-4405-8A45-028CB6DA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F5B-C33E-41C1-B49C-25D3CAA2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B5A-6660-4B93-8EB4-F9BAEFB0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BCA-6D23-4AD3-BC8C-F609DC89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08B-748F-4B3B-9D19-1474B591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FBF-0F35-4128-8A1E-48DB01CD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25F-33F5-426D-99D7-1567D10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F61E-92C2-438D-9918-01930BF12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torontozoo.com/GiantPandaCubs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disjunction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y have two sets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le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look at meiosis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021 Diagram of the stages of mitosis"/>
          <p:cNvPicPr/>
          <p:nvPr/>
        </p:nvPicPr>
        <p:blipFill>
          <a:blip r:embed="rId1"/>
          <a:stretch/>
        </p:blipFill>
        <p:spPr>
          <a:xfrm>
            <a:off x="2158920" y="609480"/>
            <a:ext cx="482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s of errors can happen during mei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disj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ppen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gamete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happen in mitosis, but less harmful because not passed on to the next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meiotic-nondisjunction-9351_3"/>
          <p:cNvPicPr/>
          <p:nvPr/>
        </p:nvPicPr>
        <p:blipFill>
          <a:blip r:embed="rId1"/>
          <a:stretch/>
        </p:blipFill>
        <p:spPr>
          <a:xfrm>
            <a:off x="685800" y="787320"/>
            <a:ext cx="7772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review some 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al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ng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(mutations) in th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K33F1"/>
          <p:cNvPicPr/>
          <p:nvPr/>
        </p:nvPicPr>
        <p:blipFill>
          <a:blip r:embed="rId1"/>
          <a:stretch/>
        </p:blipFill>
        <p:spPr>
          <a:xfrm>
            <a:off x="4648320" y="2567160"/>
            <a:ext cx="38098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aryotype2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normal-male"/>
          <p:cNvPicPr/>
          <p:nvPr/>
        </p:nvPicPr>
        <p:blipFill>
          <a:blip r:embed="rId1"/>
          <a:stretch/>
        </p:blipFill>
        <p:spPr>
          <a:xfrm>
            <a:off x="1784520" y="1981080"/>
            <a:ext cx="557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 (trisomy 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ZWK99011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 in 800 ba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degrees of intellectu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faci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heart defects &amp; oth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ZWK99033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ZWK99035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 &amp; 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6000 babies born with trisomy 13 and 1 in 5000 born with trisomy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intellectual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hysical 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ffected babies die before their first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ZWK01044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 in 500-1000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dults produce less than normal amounts of testosterone &amp; are in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ZWK99001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onosomy 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2500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infertile; do not undergo normal puberty changes unless treated with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health problems including heart and kidney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intelligence but some have learning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ZWK01047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000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 physical 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normal puberty &amp;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ZWK01042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000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ller than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rmal sexual development &amp;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ave normal intelligence; some have learning, behavioral and speech/languag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sted Reproductive Technologies (AR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itro fertilization (IV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ytoplasmic sperm 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-assisted h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ontent Placeholder 2" descr="IVF.jpg"/>
          <p:cNvPicPr/>
          <p:nvPr/>
        </p:nvPicPr>
        <p:blipFill>
          <a:blip r:embed="rId1"/>
          <a:srcRect l="24029" t="0" r="2402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&amp;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breeding (livestock, pet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life conservation (like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iant panda cu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Toronto zoo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Content Placeholder 2" descr="1297763640523_ORIGINAL.jpg"/>
          <p:cNvPicPr/>
          <p:nvPr/>
        </p:nvPicPr>
        <p:blipFill>
          <a:blip r:embed="rId2"/>
          <a:srcRect l="8517" t="1656" r="29807" b="-165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ic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somatic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wo sets of    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2:19:47Z</dcterms:created>
  <dc:creator>rubina khan</dc:creator>
  <dc:description/>
  <dc:language>en-US</dc:language>
  <cp:lastModifiedBy>rubina khan</cp:lastModifiedBy>
  <dcterms:modified xsi:type="dcterms:W3CDTF">2015-11-20T03:58:31Z</dcterms:modified>
  <cp:revision>195</cp:revision>
  <dc:subject/>
  <dc:title>Genetic Processes</dc:title>
</cp:coreProperties>
</file>